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media/image2.pct" ContentType="image/x-pict"/>
  <Override PartName="/ppt/media/image3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4B84-CC54-4C6B-B0E9-183C99136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5F19-F268-4B37-A3A9-0BCE326D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93A3-4B0A-4F25-BBDF-4F4D56DDA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7818-E051-40E4-B2CC-B391CA104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A9B6-8DE5-4812-B5D6-C6961E10B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3C35-BAE5-4AA9-B020-CEAAB86C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350D-8851-48D2-944E-5033614C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502F-78EC-4ECA-B684-E6AD56AB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809C-F3D8-4494-8453-26FDED55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EE5A-6A8D-48A1-8D5D-059BC600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D3BA-C6F8-4DEC-A3FF-8AB05ACF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9BF7-8E0D-4480-98DE-105FE937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B0B8-B93C-4475-A81A-8DF2D90E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A49D-7408-47B5-B6FC-A6F06DA7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6F0E-BAAA-4C34-92A9-25E763BC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B086-0F3A-4A30-ADD9-8EE4D79D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7F69-BD34-483B-BB78-722BF2625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051E-79AF-4CBB-8AF9-4106C26E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380F-9F06-4EF2-95EC-98EA0B94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5784-1F1A-47DE-8D3E-CFB2AEC8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6DE4-19E1-464F-AA88-99EF3AC0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D4DF-045E-4BC7-A8F1-95963B84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0F2F-E1FB-4B1F-A8B4-0BC24050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41CD-3064-4F6B-B0E3-7F70A8B2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4538520" y="6746760"/>
            <a:ext cx="4332600" cy="65160"/>
            <a:chOff x="4538520" y="6746760"/>
            <a:chExt cx="4332600" cy="65160"/>
          </a:xfrm>
        </p:grpSpPr>
        <p:sp>
          <p:nvSpPr>
            <p:cNvPr id="3" name=""/>
            <p:cNvSpPr/>
            <p:nvPr/>
          </p:nvSpPr>
          <p:spPr>
            <a:xfrm>
              <a:off x="4538520" y="6746760"/>
              <a:ext cx="669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148360" y="6746760"/>
              <a:ext cx="6660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57840" y="674676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367320" y="674676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977160" y="6746760"/>
              <a:ext cx="6660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586640" y="6746760"/>
              <a:ext cx="6660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196120" y="6746760"/>
              <a:ext cx="669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05960" y="674676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804960" y="117360"/>
            <a:ext cx="66600" cy="522360"/>
            <a:chOff x="804960" y="117360"/>
            <a:chExt cx="66600" cy="522360"/>
          </a:xfrm>
        </p:grpSpPr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7835-A102-4DB9-A4A9-123674FC6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0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880920" y="117360"/>
              <a:ext cx="66960" cy="2124360"/>
              <a:chOff x="880920" y="117360"/>
              <a:chExt cx="66960" cy="2124360"/>
            </a:xfrm>
          </p:grpSpPr>
          <p:sp>
            <p:nvSpPr>
              <p:cNvPr id="69" name=""/>
              <p:cNvSpPr/>
              <p:nvPr/>
            </p:nvSpPr>
            <p:spPr>
              <a:xfrm>
                <a:off x="880920" y="117360"/>
                <a:ext cx="66960" cy="66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80920" y="347760"/>
                <a:ext cx="6696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80920" y="574560"/>
                <a:ext cx="6696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80920" y="1033560"/>
                <a:ext cx="6696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80920" y="1260360"/>
                <a:ext cx="66960" cy="66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0920" y="1490760"/>
                <a:ext cx="6696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80920" y="1717560"/>
                <a:ext cx="6696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920" y="1947960"/>
                <a:ext cx="66960" cy="63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80920" y="2176560"/>
                <a:ext cx="6696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80920" y="804960"/>
                <a:ext cx="66960" cy="63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80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A49F-6B6A-4323-B932-61CC803885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66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Step Equ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320" y="1980720"/>
            <a:ext cx="9067680" cy="27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o solve equations with the variable on both side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olve equations containing grouping symbo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66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solve these equations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447920" y="20574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addition or subtraction property to move all variables to one side of the equal sig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equation using the method learned in Chapter 3 Section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66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see a few exampl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 6x - 3 = 2x +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2x        -2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x - 3 =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+3    +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4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     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sure to check your answ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(4) - 3 =? 2(4) +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 - 3 =? 8 +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1 = 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400800" y="4038480"/>
          <a:ext cx="81900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038480"/>
                    <a:ext cx="81900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66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try another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) 3n + 1 = 7n -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3n         -3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= 4n -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+5         +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4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     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!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(1.5) + 1 =? 7(1.5) -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5 + 1 =? 10.5 -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5 = 5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400800" y="4038480"/>
          <a:ext cx="81900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038480"/>
                    <a:ext cx="81900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66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’s a tricky on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320" y="1828440"/>
            <a:ext cx="4495680" cy="464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) 5 + 2(y + 4) = 5(y - 3) +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 fir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+ 2y + 8 = 5y - 15 +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, combine like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y + 13 = 5y -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solve. (Subtract 2y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 = 3y - 5     (Add 5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 = 3y          (Divide by 3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 =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23920" y="190512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+ 2(6 + 4) =? 5(6 - 3) +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+ 2(10) =? 5(3) +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+ 20 =? 15 +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 =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400800" y="4800600"/>
          <a:ext cx="81900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800600"/>
                    <a:ext cx="81900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66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try one with fraction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44197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- 2x = 4x -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= 6x -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= 6x   so x = 3/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3521160" cy="11462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629320" y="1600200"/>
            <a:ext cx="36705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 each 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the least comm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minator (8)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 fr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for 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2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by 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52280" y="2971800"/>
            <a:ext cx="533412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66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2670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(4 + y) - 3 = 4(y - 3) + 2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 + 6y - 3 = 4y - 12 + 2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1 + 6y = 6y -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 6y  - 6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1 = -12  Never tru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1 ≠ -1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29200" y="1980720"/>
            <a:ext cx="37339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(a + 1) - 5 = 3a -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a + 3 - 5 = 3a -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a - 2 = 3a -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3a        -3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2 = -2  Always tru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ri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Real Numb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1447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24280" y="1447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66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y a few on your ow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) 9x + 7 = 3x -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) 8 - 2(y + 1) = -3y +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) 8 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z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z -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     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66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nswer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505320" y="1980720"/>
            <a:ext cx="30477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) x = -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) y = -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9) z =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2T01:39:04Z</dcterms:created>
  <dc:creator>HCPS</dc:creator>
  <dc:description/>
  <dc:language>en-US</dc:language>
  <cp:lastModifiedBy>Parkland High School</cp:lastModifiedBy>
  <cp:lastPrinted>2010-10-05T17:06:06Z</cp:lastPrinted>
  <dcterms:modified xsi:type="dcterms:W3CDTF">2010-10-06T16:18:33Z</dcterms:modified>
  <cp:revision>16</cp:revision>
  <dc:subject/>
  <dc:title>3-3 Solving Multi-Step Equations</dc:title>
</cp:coreProperties>
</file>